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3.wmf" ContentType="image/x-wmf"/>
  <Override PartName="/ppt/media/image4.gif" ContentType="image/gif"/>
  <Override PartName="/ppt/media/image5.gif" ContentType="image/gif"/>
  <Override PartName="/ppt/media/image8.wmf" ContentType="image/x-wmf"/>
  <Override PartName="/ppt/media/image6.wmf" ContentType="image/x-wmf"/>
  <Override PartName="/ppt/media/image11.wmf" ContentType="image/x-wmf"/>
  <Override PartName="/ppt/media/image7.gif" ContentType="image/gi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3D6-BDD7-4ECC-B39C-AADCB5A0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A88-07DD-4BB3-A7F0-BB538F05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8363B-D59E-4DD9-9FCD-54D21A3F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C9B10-F65B-4D75-863A-AC040103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83AFD-70D5-4B53-AF8B-ADB38672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A74E6-4F05-4FE2-AA4C-98BFF214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B4480-EC09-416B-BAC8-773E573B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DA146-3040-45E4-B5BB-7A0DDF24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1A3F9-4906-4CE7-885B-B8302AF4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51BA4-0343-415B-AE29-9D815CFD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1E6DF-6F00-49E2-9081-FFEBCC73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3565F-C55A-47AD-BB0D-1D96494B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53E-A9CA-4AF0-967A-0CBCF371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4A1C3-35C4-4757-9288-4D51F7A7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2D6A6-AD62-4238-A976-1DFEBB2A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49027-9475-4B9B-8FA3-E3E7DCBE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C5734-F101-42C2-8067-6C2E181E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FC0A0-8C45-4F73-A181-60E68817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BAE67-1947-496B-A66F-7E62A013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A39E5-7FDE-4920-8A80-E7A0F9F5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4BCEA-51CF-4037-8BC8-AE184E51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B53B1-1DBB-43AA-B389-B655902B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05B4C-37DB-43E9-BD43-987B6C4C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076-5845-4486-98CC-ECD81281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E2E31-983C-4CBA-A703-757FBEB6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1353A-4948-4BD9-B144-259C6249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78D1D-A734-46AC-8D1B-FC9BED15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A7BE9-7459-4802-8D0B-61F2716E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D89FB-A30D-49F0-AA8B-90BB87AB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D82AF-14E0-41D7-911B-5E1990B1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69B0A-26E1-49D2-A159-755F3968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6F347-349A-42F5-A398-3C5E7C90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6846D-AC5A-4941-BB7D-750E45BF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4B62A-D6C3-46F6-94E4-87F7C7E1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DFC1-0CB5-46F1-B222-377D28FB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503EA-6BCD-43DC-869B-9D004F3C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78BD1-4BFD-4595-870A-50D388F4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02A0A-3C5F-437A-8C74-47B38E22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85F4A-EBC8-4453-A632-B803AD92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87E35-8E1F-4A68-8B7E-B959152C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98763-AF15-4FDE-BEC2-3A62582A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C6E2C-4E82-4866-8AA1-CE00CA79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307D1-756C-4809-8AD2-FFCF8213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40B87-86ED-4C49-A62D-5E54D23A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18649-FD4F-4223-9FE8-EEEACD4B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519F-0A17-4C17-8F79-A58412BB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FBCD4-948C-4818-87F0-02B42F69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1ADB2-8AE8-4BDF-83F2-6D93A7ED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9BBFF-C121-43A0-9B2C-CA40B405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CAD7B-04C0-4E6D-8054-F8A1A6EB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AF0F5-1F68-49ED-B43F-3BEC1034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5906-6DCD-41DF-A86C-782F5449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A882-9B52-44FD-9FAF-67AB6A6F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3E46-B72C-4FCA-BCAC-D46B17C8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A071-B7A1-4F52-B7DC-5FFC737C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D866-001A-443C-93EC-ED20D13F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6FE-1BDE-4193-8938-2979CA86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B318-E8D6-400D-8819-F4F7FE9E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0022-3576-425F-ADC6-8CF591D6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7435-31A5-4CD9-AB4A-441B43C9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A3D2-F43A-48F2-B4C6-89C14249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7A01-8FB4-4D57-944A-7BA90766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0225B-653D-4636-8463-182C439D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D100A-F1BC-48A5-B900-5FF13075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12AFE-E337-40B9-8E46-954EE95B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CFA3-4370-47C3-AF0B-C5217F9D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28D7-C745-46B0-B28D-FEA6E950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C4C-73E3-4C13-8B84-CD1BAAE0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48DD-542C-4622-AEFC-A5BCB35D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111EC-1D0A-41D6-86C2-BB467DF6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3BE36-6100-46AB-BBC4-D7418CEC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D514D-1F1C-4F99-9DD5-0077D92C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E3203-8236-47C1-9FFA-81654EFA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702F9-420B-401A-9ACB-640B47E8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28AD7-EDC4-4B95-BB27-F5FF7086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47F77-B530-4F09-8261-95CF1E18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80FF0-7358-4359-AFE2-0FA4DFEC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E8F78-8CF5-4F4C-9325-C46963F4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9AA-363E-4721-8AEB-1587C4F4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E569C-4847-4914-B5A7-C8B47C48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FE6EF-50D4-436E-9A6D-43269063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B71A1-4E0F-4D5A-927D-84D40EE6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C5B30-58D6-470C-9FA6-35827E0C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C1CB1-D5F0-43D3-AC9A-67D03CDC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8D5C4-2B2C-4131-A128-26491C15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0C904-6563-4575-BA50-1D306A02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478A2-AAB3-4C23-BD5F-239FA2A4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6819-5AA9-4DDF-9AA8-05ADE2C9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A0D24-28F9-4563-9316-B35FFAD6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586-1672-470F-B228-75DEE271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745DD-CE20-4DD0-966F-E0C2050B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35A71-5821-4596-B575-1B552238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C0D6B-147E-45F0-B2B1-252CD973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41EA7-D6E3-464B-804E-B6718EBA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C07E8-65A3-400B-947E-2D668A78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96D3E-B897-457C-9492-77C5ED14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26561-64FF-4F21-AE09-71950C95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5BE88-4FAC-4608-9D09-3844AB00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C332B-0C1C-423A-ADDC-A5E2FAB6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B47D9-1FA4-4414-A8DA-10025BCD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89C-3657-4A67-8D2D-752C2FD1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9EC71-37AE-4760-96F5-B45F2B92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FD1E8-74C0-4CE1-AC3E-91EF5B7F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2CCD8-52B6-412D-9155-CB64E778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8C2C8-D9C9-4689-833B-7880CAD7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296A1-832D-4681-A342-8851D2F0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E45F4-846E-48EE-A4D7-4E7D893F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32031-F34E-4DF8-B91A-A9BE922D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C68D9-2103-49B8-AF99-25667647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2A7B2-1BBB-4A4F-A1CA-5A42A45B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63F1E-3FB1-4ABF-B743-3E9AFAAD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E9C-C636-4216-A216-355F7198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1338F-D1C2-4D30-86A6-C893D369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C9BF3-441B-4FC9-B53E-51883F61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201F6-8004-4D6B-B6FB-8529D939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F0265-32D8-4CF1-9DBF-C57924A8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1B714-1E4A-4A5F-A126-CFE7E602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922E2-BB8A-4B02-941F-A80A574A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F0AA9-48B5-4963-B9F9-499B25A9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2E5FA-52CA-4F85-B976-80EB3ED1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2616D-2832-4759-9A7C-0CCAF4BB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79B79-3D8A-4A40-AD39-DB5E46D7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8C8-6276-4EB3-B3FE-0E2C26A7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41952-5E2F-4253-AFE5-7219BD39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1B270-93DC-413C-B061-A5C7D384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E0557-311B-451A-A0D9-F0318BF6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A6E7F-EDD6-4517-AB8D-E67A3F37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A0B63-EA52-4A81-950C-5D426AA5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57DC3-50EB-48E1-B0CB-6351F5FD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8EEDC-E453-41CD-9D90-8E2224E3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D38FC-CB8E-4A6A-92FA-2C524D31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DCC8B-07C9-4539-9840-13B12A16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F74FB-B619-4143-AF5E-12755719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724-A943-4DC7-8A87-822347D9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960120" y="923400"/>
            <a:ext cx="71168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7A320-0739-4F13-A469-F80A53E7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8AE4A-BBAD-4A03-8E83-FDE131BA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3483A-4B78-4CE0-8704-DDA3D72B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60188-2097-439F-A936-EB34349F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093320" y="3904200"/>
            <a:ext cx="69469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C694B-3809-4E42-93DC-CD32E782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53000" y="213372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9332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53000" y="3904200"/>
            <a:ext cx="33897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57DFE-1B12-408C-98FC-6A7094DB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44232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790960" y="213372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093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44232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790960" y="3904200"/>
            <a:ext cx="223668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E1B1B-2C43-4299-A6EC-2E07F781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576A1-7A4B-4818-AD96-94CE9BC1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C161B-5AC1-4692-888C-C4828DD2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C178E-984A-465F-A0BD-7C031987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E412-57D8-4DE0-B48E-84072802EE3B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5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6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7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8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9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0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1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2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3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4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5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6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7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8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9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0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1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2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3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4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5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6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7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8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28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9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0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8E15-7E9F-4726-BD23-78C0E6EC772A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1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2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3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4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5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6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7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8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9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0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1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2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3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4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5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6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7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8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9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0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1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2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3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4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1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2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3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09BB-0A56-48F7-A4DC-2197830C61E1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7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8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9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0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1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2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3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4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5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6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7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8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9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0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1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2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3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4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5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6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7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8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9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0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34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35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36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51D4-A257-4167-8A28-F897DC9C94FE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2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Freeform 3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Freeform 10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Freeform 11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Freeform 12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Freeform 13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Freeform 14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Freeform 15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Freeform 16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Freeform 17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Freeform 18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Freeform 19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Freeform 20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Freeform 21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Freeform 22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Freeform 23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Freeform 24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Freeform 25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Freeform 26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Freeform 27"/>
          <p:cNvSpPr/>
          <p:nvPr/>
        </p:nvSpPr>
        <p:spPr>
          <a:xfrm>
            <a:off x="8207280" y="3448080"/>
            <a:ext cx="938160" cy="15778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Freeform 28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739800" y="55688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78080" y="5568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607080" y="55688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70BF-36A4-4A38-9C1C-3A6715372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4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5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1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2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3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4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5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6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F6E0-D2E2-4AB0-BE30-2DBBAF0F1FFE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0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2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3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4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5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6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7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8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9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1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2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3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4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7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8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9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0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1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F794-F676-4EB9-9C35-6DB98F59AF90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6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9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0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2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3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4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5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7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8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0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1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2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3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4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5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6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7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8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C4A6-B0A0-4C41-BC8C-ECE9D2FBCC02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2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5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6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7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8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0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1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2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3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5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6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7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8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9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0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1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2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3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4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B993-2CE1-4C24-ACB2-75FCD073C9A4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7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8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9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0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1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2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3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4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5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6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7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8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9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0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1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2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3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4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5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6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7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8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9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0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19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0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1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9F81-B156-41B8-A50C-A16257D39050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3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4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5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6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7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8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9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0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1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2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3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4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5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6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7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8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9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0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1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2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3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4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5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6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2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23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24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EFA3-1267-46EA-89D8-74EA995A7EDA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reeform 2"/>
          <p:cNvSpPr/>
          <p:nvPr/>
        </p:nvSpPr>
        <p:spPr>
          <a:xfrm>
            <a:off x="8237520" y="2492280"/>
            <a:ext cx="90648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9" name="Freeform 3"/>
          <p:cNvSpPr/>
          <p:nvPr/>
        </p:nvSpPr>
        <p:spPr>
          <a:xfrm>
            <a:off x="6257880" y="5816520"/>
            <a:ext cx="1150920" cy="10414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0" name="Freeform 4"/>
          <p:cNvSpPr/>
          <p:nvPr/>
        </p:nvSpPr>
        <p:spPr>
          <a:xfrm>
            <a:off x="7342200" y="-3240"/>
            <a:ext cx="1800360" cy="10080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1" name="Freeform 10"/>
          <p:cNvSpPr/>
          <p:nvPr/>
        </p:nvSpPr>
        <p:spPr>
          <a:xfrm>
            <a:off x="0" y="419112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2" name="Freeform 11"/>
          <p:cNvSpPr/>
          <p:nvPr/>
        </p:nvSpPr>
        <p:spPr>
          <a:xfrm>
            <a:off x="0" y="3276720"/>
            <a:ext cx="836640" cy="1014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3" name="Freeform 12"/>
          <p:cNvSpPr/>
          <p:nvPr/>
        </p:nvSpPr>
        <p:spPr>
          <a:xfrm>
            <a:off x="0" y="2257560"/>
            <a:ext cx="957240" cy="11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4" name="Freeform 13"/>
          <p:cNvSpPr/>
          <p:nvPr/>
        </p:nvSpPr>
        <p:spPr>
          <a:xfrm>
            <a:off x="-3240" y="838080"/>
            <a:ext cx="939960" cy="1633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5" name="Freeform 14"/>
          <p:cNvSpPr/>
          <p:nvPr/>
        </p:nvSpPr>
        <p:spPr>
          <a:xfrm>
            <a:off x="7221600" y="5952960"/>
            <a:ext cx="1150920" cy="905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6" name="Freeform 15"/>
          <p:cNvSpPr/>
          <p:nvPr/>
        </p:nvSpPr>
        <p:spPr>
          <a:xfrm>
            <a:off x="8307360" y="1488960"/>
            <a:ext cx="836640" cy="10177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7" name="Freeform 16"/>
          <p:cNvSpPr/>
          <p:nvPr/>
        </p:nvSpPr>
        <p:spPr>
          <a:xfrm>
            <a:off x="595440" y="0"/>
            <a:ext cx="1412640" cy="1003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8" name="Freeform 17"/>
          <p:cNvSpPr/>
          <p:nvPr/>
        </p:nvSpPr>
        <p:spPr>
          <a:xfrm>
            <a:off x="2895480" y="0"/>
            <a:ext cx="1271880" cy="10382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9" name="Freeform 18"/>
          <p:cNvSpPr/>
          <p:nvPr/>
        </p:nvSpPr>
        <p:spPr>
          <a:xfrm>
            <a:off x="1917720" y="-1440"/>
            <a:ext cx="1147680" cy="10490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0" name="Freeform 19"/>
          <p:cNvSpPr/>
          <p:nvPr/>
        </p:nvSpPr>
        <p:spPr>
          <a:xfrm>
            <a:off x="3962520" y="0"/>
            <a:ext cx="1260360" cy="9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1" name="Freeform 20"/>
          <p:cNvSpPr/>
          <p:nvPr/>
        </p:nvSpPr>
        <p:spPr>
          <a:xfrm>
            <a:off x="5014800" y="-1440"/>
            <a:ext cx="1249560" cy="9921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2" name="Freeform 21"/>
          <p:cNvSpPr/>
          <p:nvPr/>
        </p:nvSpPr>
        <p:spPr>
          <a:xfrm>
            <a:off x="6095880" y="-1440"/>
            <a:ext cx="1455840" cy="9777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3" name="Freeform 22"/>
          <p:cNvSpPr/>
          <p:nvPr/>
        </p:nvSpPr>
        <p:spPr>
          <a:xfrm>
            <a:off x="-1440" y="-1440"/>
            <a:ext cx="1006200" cy="1220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4" name="Freeform 23"/>
          <p:cNvSpPr/>
          <p:nvPr/>
        </p:nvSpPr>
        <p:spPr>
          <a:xfrm>
            <a:off x="1654200" y="5761080"/>
            <a:ext cx="1449360" cy="1096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5" name="Freeform 24"/>
          <p:cNvSpPr/>
          <p:nvPr/>
        </p:nvSpPr>
        <p:spPr>
          <a:xfrm>
            <a:off x="2862360" y="5862600"/>
            <a:ext cx="1244520" cy="995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6" name="Freeform 25"/>
          <p:cNvSpPr/>
          <p:nvPr/>
        </p:nvSpPr>
        <p:spPr>
          <a:xfrm>
            <a:off x="3835440" y="5888160"/>
            <a:ext cx="1433520" cy="9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7" name="Freeform 26"/>
          <p:cNvSpPr/>
          <p:nvPr/>
        </p:nvSpPr>
        <p:spPr>
          <a:xfrm>
            <a:off x="5010120" y="5843520"/>
            <a:ext cx="1335240" cy="101448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8" name="Freeform 27"/>
          <p:cNvSpPr/>
          <p:nvPr/>
        </p:nvSpPr>
        <p:spPr>
          <a:xfrm>
            <a:off x="8205840" y="4973760"/>
            <a:ext cx="939600" cy="1884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9" name="Freeform 28"/>
          <p:cNvSpPr/>
          <p:nvPr/>
        </p:nvSpPr>
        <p:spPr>
          <a:xfrm>
            <a:off x="8207280" y="3276720"/>
            <a:ext cx="938160" cy="17492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0" name="Freeform 29"/>
          <p:cNvSpPr/>
          <p:nvPr/>
        </p:nvSpPr>
        <p:spPr>
          <a:xfrm rot="10800000">
            <a:off x="8305920" y="460080"/>
            <a:ext cx="838080" cy="1143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1" name="Freeform 30"/>
          <p:cNvSpPr/>
          <p:nvPr/>
        </p:nvSpPr>
        <p:spPr>
          <a:xfrm>
            <a:off x="0" y="5257800"/>
            <a:ext cx="754200" cy="11937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2" name="Freeform 31"/>
          <p:cNvSpPr/>
          <p:nvPr/>
        </p:nvSpPr>
        <p:spPr>
          <a:xfrm>
            <a:off x="0" y="5724360"/>
            <a:ext cx="1847880" cy="11350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1" marL="601560" indent="-23148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2" marL="92556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3" marL="1296000" indent="-185040">
              <a:spcBef>
                <a:spcPts val="799"/>
              </a:spcBef>
              <a:buClr>
                <a:srgbClr val="0000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4" marL="1666440" indent="-185040">
              <a:spcBef>
                <a:spcPts val="799"/>
              </a:spcBef>
              <a:buClr>
                <a:srgbClr val="008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25"/>
          </p:nvPr>
        </p:nvSpPr>
        <p:spPr>
          <a:xfrm>
            <a:off x="82224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26"/>
          </p:nvPr>
        </p:nvSpPr>
        <p:spPr>
          <a:xfrm>
            <a:off x="3260520" y="567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27"/>
          </p:nvPr>
        </p:nvSpPr>
        <p:spPr>
          <a:xfrm>
            <a:off x="6689520" y="567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48C9-C7FD-4C13-B0FC-B5F02B7067F8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80640" y="2176560"/>
            <a:ext cx="717084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Predicates</a:t>
            </a:r>
            <a:endParaRPr b="1" lang="en-US" sz="7200" spc="-1" strike="noStrike">
              <a:solidFill>
                <a:srgbClr val="0000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Let’s Practice!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72" name="Text Box 3"/>
          <p:cNvSpPr/>
          <p:nvPr/>
        </p:nvSpPr>
        <p:spPr>
          <a:xfrm>
            <a:off x="990720" y="2133720"/>
            <a:ext cx="739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</a:rPr>
              <a:t>Seven monkeys played in the tree.</a:t>
            </a:r>
            <a:endParaRPr b="0" lang="en-US" sz="3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3" name="Text Box 4"/>
          <p:cNvSpPr/>
          <p:nvPr/>
        </p:nvSpPr>
        <p:spPr>
          <a:xfrm>
            <a:off x="121932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4" name="Text Box 5"/>
          <p:cNvSpPr/>
          <p:nvPr/>
        </p:nvSpPr>
        <p:spPr>
          <a:xfrm>
            <a:off x="251460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Seven monkeys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5" name="Text Box 6"/>
          <p:cNvSpPr/>
          <p:nvPr/>
        </p:nvSpPr>
        <p:spPr>
          <a:xfrm>
            <a:off x="1219320" y="42670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AT DID THEY D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6" name="Text Box 7"/>
          <p:cNvSpPr/>
          <p:nvPr/>
        </p:nvSpPr>
        <p:spPr>
          <a:xfrm>
            <a:off x="4191120" y="47242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played in the tree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7" name="Freeform 8"/>
          <p:cNvSpPr/>
          <p:nvPr/>
        </p:nvSpPr>
        <p:spPr>
          <a:xfrm>
            <a:off x="4495680" y="2590920"/>
            <a:ext cx="1219320" cy="228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8" name="Line 9"/>
          <p:cNvSpPr/>
          <p:nvPr/>
        </p:nvSpPr>
        <p:spPr>
          <a:xfrm>
            <a:off x="4419720" y="1905120"/>
            <a:ext cx="0" cy="1066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9" name="Line 10"/>
          <p:cNvSpPr/>
          <p:nvPr/>
        </p:nvSpPr>
        <p:spPr>
          <a:xfrm>
            <a:off x="4495680" y="2666880"/>
            <a:ext cx="3581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0" name="Text Box 11"/>
          <p:cNvSpPr/>
          <p:nvPr/>
        </p:nvSpPr>
        <p:spPr>
          <a:xfrm>
            <a:off x="5791320" y="33526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1" name="Text Box 12"/>
          <p:cNvSpPr/>
          <p:nvPr/>
        </p:nvSpPr>
        <p:spPr>
          <a:xfrm>
            <a:off x="5334120" y="42670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82" name="Picture 13" descr="j0186485"/>
          <p:cNvPicPr/>
          <p:nvPr/>
        </p:nvPicPr>
        <p:blipFill>
          <a:blip r:embed="rId1"/>
          <a:stretch/>
        </p:blipFill>
        <p:spPr>
          <a:xfrm>
            <a:off x="380880" y="4756320"/>
            <a:ext cx="3657600" cy="210168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14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4" dur="4037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Let’s Practice!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85" name="Text Box 3"/>
          <p:cNvSpPr/>
          <p:nvPr/>
        </p:nvSpPr>
        <p:spPr>
          <a:xfrm>
            <a:off x="990720" y="2133720"/>
            <a:ext cx="7467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</a:rPr>
              <a:t>Jon, Sue and I ate dinner together.</a:t>
            </a:r>
            <a:endParaRPr b="0" lang="en-US" sz="3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6" name="Text Box 4"/>
          <p:cNvSpPr/>
          <p:nvPr/>
        </p:nvSpPr>
        <p:spPr>
          <a:xfrm>
            <a:off x="121932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7" name="Text Box 5"/>
          <p:cNvSpPr/>
          <p:nvPr/>
        </p:nvSpPr>
        <p:spPr>
          <a:xfrm>
            <a:off x="251460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Jon, Sue and I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8" name="Text Box 6"/>
          <p:cNvSpPr/>
          <p:nvPr/>
        </p:nvSpPr>
        <p:spPr>
          <a:xfrm>
            <a:off x="1219320" y="42670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AT DID WE D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9" name="Text Box 7"/>
          <p:cNvSpPr/>
          <p:nvPr/>
        </p:nvSpPr>
        <p:spPr>
          <a:xfrm>
            <a:off x="4191120" y="47242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ate dinner together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0" name="Freeform 8"/>
          <p:cNvSpPr/>
          <p:nvPr/>
        </p:nvSpPr>
        <p:spPr>
          <a:xfrm>
            <a:off x="4191120" y="2666880"/>
            <a:ext cx="685800" cy="228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1" name="Line 9"/>
          <p:cNvSpPr/>
          <p:nvPr/>
        </p:nvSpPr>
        <p:spPr>
          <a:xfrm>
            <a:off x="4114800" y="1981080"/>
            <a:ext cx="0" cy="1067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2" name="Line 10"/>
          <p:cNvSpPr/>
          <p:nvPr/>
        </p:nvSpPr>
        <p:spPr>
          <a:xfrm>
            <a:off x="4114800" y="2666880"/>
            <a:ext cx="40384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3" name="Text Box 11"/>
          <p:cNvSpPr/>
          <p:nvPr/>
        </p:nvSpPr>
        <p:spPr>
          <a:xfrm>
            <a:off x="5791320" y="33526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5105520" y="42670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95" name="Picture 14" descr="j0089618"/>
          <p:cNvPicPr/>
          <p:nvPr/>
        </p:nvPicPr>
        <p:blipFill>
          <a:blip r:embed="rId1"/>
          <a:stretch/>
        </p:blipFill>
        <p:spPr>
          <a:xfrm>
            <a:off x="380880" y="4676760"/>
            <a:ext cx="3353040" cy="218124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15" descr=""/>
          <p:cNvPicPr/>
          <p:nvPr/>
        </p:nvPicPr>
        <p:blipFill>
          <a:blip r:embed="rId2"/>
          <a:stretch/>
        </p:blipFill>
        <p:spPr>
          <a:xfrm>
            <a:off x="37339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0" dur="10931" fill="hold"/>
                                        <p:tgtEl>
                                          <p:spTgt spid="8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Let’s Practice!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98" name="Text Box 3"/>
          <p:cNvSpPr/>
          <p:nvPr/>
        </p:nvSpPr>
        <p:spPr>
          <a:xfrm>
            <a:off x="1143000" y="2133720"/>
            <a:ext cx="7086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</a:rPr>
              <a:t>Jon and Sue are getting married.</a:t>
            </a:r>
            <a:endParaRPr b="0" lang="en-US" sz="3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9" name="Text Box 4"/>
          <p:cNvSpPr/>
          <p:nvPr/>
        </p:nvSpPr>
        <p:spPr>
          <a:xfrm>
            <a:off x="121932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0" name="Text Box 5"/>
          <p:cNvSpPr/>
          <p:nvPr/>
        </p:nvSpPr>
        <p:spPr>
          <a:xfrm>
            <a:off x="251460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Jon and Su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1" name="Text Box 6"/>
          <p:cNvSpPr/>
          <p:nvPr/>
        </p:nvSpPr>
        <p:spPr>
          <a:xfrm>
            <a:off x="1219320" y="42670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AT WILL THEY D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2" name="Text Box 7"/>
          <p:cNvSpPr/>
          <p:nvPr/>
        </p:nvSpPr>
        <p:spPr>
          <a:xfrm>
            <a:off x="4191120" y="47242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are getting married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3" name="Freeform 8"/>
          <p:cNvSpPr/>
          <p:nvPr/>
        </p:nvSpPr>
        <p:spPr>
          <a:xfrm>
            <a:off x="3962520" y="2666880"/>
            <a:ext cx="685800" cy="228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4" name="Line 9"/>
          <p:cNvSpPr/>
          <p:nvPr/>
        </p:nvSpPr>
        <p:spPr>
          <a:xfrm>
            <a:off x="3886200" y="190512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5" name="Line 10"/>
          <p:cNvSpPr/>
          <p:nvPr/>
        </p:nvSpPr>
        <p:spPr>
          <a:xfrm>
            <a:off x="3962520" y="2666880"/>
            <a:ext cx="3886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6" name="Text Box 11"/>
          <p:cNvSpPr/>
          <p:nvPr/>
        </p:nvSpPr>
        <p:spPr>
          <a:xfrm>
            <a:off x="5791320" y="33526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7" name="Text Box 12"/>
          <p:cNvSpPr/>
          <p:nvPr/>
        </p:nvSpPr>
        <p:spPr>
          <a:xfrm>
            <a:off x="5562720" y="42670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08" name="Picture 13" descr="j0156457"/>
          <p:cNvPicPr/>
          <p:nvPr/>
        </p:nvPicPr>
        <p:blipFill>
          <a:blip r:embed="rId1"/>
          <a:stretch/>
        </p:blipFill>
        <p:spPr>
          <a:xfrm>
            <a:off x="609480" y="4616280"/>
            <a:ext cx="2667240" cy="2241720"/>
          </a:xfrm>
          <a:prstGeom prst="rect">
            <a:avLst/>
          </a:prstGeom>
          <a:ln w="0">
            <a:noFill/>
          </a:ln>
        </p:spPr>
      </p:pic>
      <p:pic>
        <p:nvPicPr>
          <p:cNvPr id="909" name="MacOS" descr=""/>
          <p:cNvPicPr/>
          <p:nvPr/>
        </p:nvPicPr>
        <p:blipFill>
          <a:blip r:embed="rId2"/>
          <a:stretch/>
        </p:blipFill>
        <p:spPr>
          <a:xfrm>
            <a:off x="2743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9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2" dur="1" fill="hold"/>
                                        <p:tgtEl>
                                          <p:spTgt spid="9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Let’s Practice!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990720" y="2133720"/>
            <a:ext cx="739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</a:rPr>
              <a:t>Tim  and I will be in the wedding.</a:t>
            </a:r>
            <a:endParaRPr b="0" lang="en-US" sz="3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121932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251460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Tim and I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1219320" y="42670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AT DID WE D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4191120" y="47242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will be in the wedding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6" name="Freeform 8"/>
          <p:cNvSpPr/>
          <p:nvPr/>
        </p:nvSpPr>
        <p:spPr>
          <a:xfrm>
            <a:off x="3276720" y="2590920"/>
            <a:ext cx="1218960" cy="228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7" name="Line 9"/>
          <p:cNvSpPr/>
          <p:nvPr/>
        </p:nvSpPr>
        <p:spPr>
          <a:xfrm>
            <a:off x="3200400" y="1981080"/>
            <a:ext cx="0" cy="1067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8" name="Line 10"/>
          <p:cNvSpPr/>
          <p:nvPr/>
        </p:nvSpPr>
        <p:spPr>
          <a:xfrm>
            <a:off x="3276720" y="2666880"/>
            <a:ext cx="46479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5791320" y="33526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5105520" y="42670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21" name="Picture 13" descr="PE02293_"/>
          <p:cNvPicPr/>
          <p:nvPr/>
        </p:nvPicPr>
        <p:blipFill>
          <a:blip r:embed="rId1"/>
          <a:stretch/>
        </p:blipFill>
        <p:spPr>
          <a:xfrm>
            <a:off x="0" y="3962520"/>
            <a:ext cx="2736720" cy="28954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4" descr=""/>
          <p:cNvPicPr/>
          <p:nvPr/>
        </p:nvPicPr>
        <p:blipFill>
          <a:blip r:embed="rId2"/>
          <a:stretch/>
        </p:blipFill>
        <p:spPr>
          <a:xfrm>
            <a:off x="2971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8" dur="6777" fill="hold"/>
                                        <p:tgtEl>
                                          <p:spTgt spid="9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entury Gothic"/>
              </a:rPr>
              <a:t>Let’s Review: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933480" y="1685880"/>
            <a:ext cx="71168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o Find the PREDICATE: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1066680" y="2666880"/>
            <a:ext cx="6946920" cy="33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Ask what does the subject do?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Find the verb (action or linking)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Draw a vertical line before the verb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The predicate is the rest of the sentence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5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3" dur="500"/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5438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Every complete sentence has two parts:  </a:t>
            </a:r>
            <a:r>
              <a:rPr b="1" lang="en-US" sz="3600" spc="-1" strike="noStrike">
                <a:solidFill>
                  <a:srgbClr val="0000ff"/>
                </a:solidFill>
                <a:latin typeface="Century Gothic"/>
              </a:rPr>
              <a:t>subject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1" lang="en-US" sz="3600" spc="-1" strike="noStrike">
                <a:solidFill>
                  <a:srgbClr val="008000"/>
                </a:solidFill>
                <a:latin typeface="Century Gothic"/>
              </a:rPr>
              <a:t>predicate</a:t>
            </a:r>
            <a:endParaRPr b="1" lang="en-US" sz="36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90360" y="30481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The subject is the who (or what) the sentence is about.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e predicate tells what the subject does.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Judy and her dog run on the beach every day.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90360" y="3276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Who?   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What do they do?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  <p:sp>
        <p:nvSpPr>
          <p:cNvPr id="797" name="Text Box 9"/>
          <p:cNvSpPr/>
          <p:nvPr/>
        </p:nvSpPr>
        <p:spPr>
          <a:xfrm>
            <a:off x="2666880" y="32767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Rounded MT Bold"/>
              </a:rPr>
              <a:t>Judy and her do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8" name="Text Box 10"/>
          <p:cNvSpPr/>
          <p:nvPr/>
        </p:nvSpPr>
        <p:spPr>
          <a:xfrm>
            <a:off x="2590920" y="44956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Rounded MT Bold"/>
              </a:rPr>
              <a:t>run on the beach everyday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9" name="Text Box 11"/>
          <p:cNvSpPr/>
          <p:nvPr/>
        </p:nvSpPr>
        <p:spPr>
          <a:xfrm>
            <a:off x="5943600" y="32004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5410080" y="39625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90720" y="9907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 Rounded MT Bold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02" name="Picture 14" descr="AG00185_"/>
          <p:cNvPicPr/>
          <p:nvPr/>
        </p:nvPicPr>
        <p:blipFill>
          <a:blip r:embed="rId1"/>
          <a:stretch/>
        </p:blipFill>
        <p:spPr>
          <a:xfrm>
            <a:off x="0" y="4648320"/>
            <a:ext cx="4019400" cy="19936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5" descr=""/>
          <p:cNvPicPr/>
          <p:nvPr/>
        </p:nvPicPr>
        <p:blipFill>
          <a:blip r:embed="rId2"/>
          <a:stretch/>
        </p:blipFill>
        <p:spPr>
          <a:xfrm>
            <a:off x="35812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6" descr=""/>
          <p:cNvPicPr/>
          <p:nvPr/>
        </p:nvPicPr>
        <p:blipFill>
          <a:blip r:embed="rId3"/>
          <a:stretch/>
        </p:blipFill>
        <p:spPr>
          <a:xfrm>
            <a:off x="32004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5" name="Oval 17"/>
          <p:cNvSpPr/>
          <p:nvPr/>
        </p:nvSpPr>
        <p:spPr>
          <a:xfrm>
            <a:off x="914400" y="1600200"/>
            <a:ext cx="518148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6" name="Line 18"/>
          <p:cNvSpPr/>
          <p:nvPr/>
        </p:nvSpPr>
        <p:spPr>
          <a:xfrm>
            <a:off x="6019920" y="2286000"/>
            <a:ext cx="17524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7" name="Line 19"/>
          <p:cNvSpPr/>
          <p:nvPr/>
        </p:nvSpPr>
        <p:spPr>
          <a:xfrm>
            <a:off x="1523880" y="2971800"/>
            <a:ext cx="56390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2676" fill="hold"/>
                                        <p:tgtEl>
                                          <p:spTgt spid="8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176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4727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To Find the PREDICATE: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093320" y="2133720"/>
            <a:ext cx="694692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Ask what does it do?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Find the verb (action or linking)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Draw a vertical line before the verb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 Gothic"/>
              </a:rPr>
              <a:t>The predicate is the rest of the sentence.</a:t>
            </a:r>
            <a:endParaRPr b="1" lang="en-US" sz="3200" spc="-1" strike="noStrike">
              <a:solidFill>
                <a:srgbClr val="008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 Box 9"/>
          <p:cNvSpPr/>
          <p:nvPr/>
        </p:nvSpPr>
        <p:spPr>
          <a:xfrm>
            <a:off x="640080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Judy and her dog run on the beach every day.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12" name="Text Box 14"/>
          <p:cNvSpPr/>
          <p:nvPr/>
        </p:nvSpPr>
        <p:spPr>
          <a:xfrm>
            <a:off x="990720" y="9907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 Rounded MT Bold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3" name="Freeform 15"/>
          <p:cNvSpPr/>
          <p:nvPr/>
        </p:nvSpPr>
        <p:spPr>
          <a:xfrm>
            <a:off x="6095880" y="2209680"/>
            <a:ext cx="914400" cy="228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4" name="Line 16"/>
          <p:cNvSpPr/>
          <p:nvPr/>
        </p:nvSpPr>
        <p:spPr>
          <a:xfrm>
            <a:off x="6019920" y="1523880"/>
            <a:ext cx="0" cy="1067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5" name="Line 18"/>
          <p:cNvSpPr/>
          <p:nvPr/>
        </p:nvSpPr>
        <p:spPr>
          <a:xfrm>
            <a:off x="6095880" y="2286000"/>
            <a:ext cx="16765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6" name="Line 19"/>
          <p:cNvSpPr/>
          <p:nvPr/>
        </p:nvSpPr>
        <p:spPr>
          <a:xfrm>
            <a:off x="1447920" y="2971800"/>
            <a:ext cx="58672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7" name="Text Box 20"/>
          <p:cNvSpPr/>
          <p:nvPr/>
        </p:nvSpPr>
        <p:spPr>
          <a:xfrm>
            <a:off x="609480" y="3429000"/>
            <a:ext cx="716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entury Gothic"/>
              </a:rPr>
              <a:t>Find the verb (action or linking)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8" name="Text Box 21"/>
          <p:cNvSpPr/>
          <p:nvPr/>
        </p:nvSpPr>
        <p:spPr>
          <a:xfrm>
            <a:off x="609480" y="4267080"/>
            <a:ext cx="85345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entury Gothic"/>
              </a:rPr>
              <a:t>Draw a vertical line before the verb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entury Gothic"/>
              </a:rPr>
              <a:t>The predicateis the rest of the sentence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Let’s Practice!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20" name="Text Box 10"/>
          <p:cNvSpPr/>
          <p:nvPr/>
        </p:nvSpPr>
        <p:spPr>
          <a:xfrm>
            <a:off x="1143000" y="2133720"/>
            <a:ext cx="7086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</a:rPr>
              <a:t>My little brother broke his finger.</a:t>
            </a:r>
            <a:endParaRPr b="0" lang="en-US" sz="3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1" name="Text Box 11"/>
          <p:cNvSpPr/>
          <p:nvPr/>
        </p:nvSpPr>
        <p:spPr>
          <a:xfrm>
            <a:off x="121932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2" name="Text Box 12"/>
          <p:cNvSpPr/>
          <p:nvPr/>
        </p:nvSpPr>
        <p:spPr>
          <a:xfrm>
            <a:off x="251460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My little brother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3" name="Text Box 13"/>
          <p:cNvSpPr/>
          <p:nvPr/>
        </p:nvSpPr>
        <p:spPr>
          <a:xfrm>
            <a:off x="1219320" y="42670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AT DID HE D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4" name="Text Box 14"/>
          <p:cNvSpPr/>
          <p:nvPr/>
        </p:nvSpPr>
        <p:spPr>
          <a:xfrm>
            <a:off x="4191120" y="47242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broke his finger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5" name="Freeform 15"/>
          <p:cNvSpPr/>
          <p:nvPr/>
        </p:nvSpPr>
        <p:spPr>
          <a:xfrm>
            <a:off x="4800600" y="2590920"/>
            <a:ext cx="914400" cy="228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6" name="Line 16"/>
          <p:cNvSpPr/>
          <p:nvPr/>
        </p:nvSpPr>
        <p:spPr>
          <a:xfrm>
            <a:off x="4572000" y="1905120"/>
            <a:ext cx="0" cy="1066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7" name="Line 17"/>
          <p:cNvSpPr/>
          <p:nvPr/>
        </p:nvSpPr>
        <p:spPr>
          <a:xfrm>
            <a:off x="4724280" y="2666880"/>
            <a:ext cx="3200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8" name="Text Box 18"/>
          <p:cNvSpPr/>
          <p:nvPr/>
        </p:nvSpPr>
        <p:spPr>
          <a:xfrm>
            <a:off x="5791320" y="33526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9" name="Text Box 19"/>
          <p:cNvSpPr/>
          <p:nvPr/>
        </p:nvSpPr>
        <p:spPr>
          <a:xfrm>
            <a:off x="5105520" y="42670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30" name="Picture 21" descr="j0423856"/>
          <p:cNvPicPr/>
          <p:nvPr/>
        </p:nvPicPr>
        <p:blipFill>
          <a:blip r:embed="rId1"/>
          <a:stretch/>
        </p:blipFill>
        <p:spPr>
          <a:xfrm>
            <a:off x="609480" y="4724280"/>
            <a:ext cx="2038320" cy="19256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22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678" fill="hold"/>
                                        <p:tgtEl>
                                          <p:spTgt spid="8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Let’s Practice!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990720" y="2133720"/>
            <a:ext cx="7467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His Uncle Bob asked for directions.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121932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5" name="Text Box 5"/>
          <p:cNvSpPr/>
          <p:nvPr/>
        </p:nvSpPr>
        <p:spPr>
          <a:xfrm>
            <a:off x="251460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His Uncle Bob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1219320" y="42670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AT DID HE D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7" name="Text Box 7"/>
          <p:cNvSpPr/>
          <p:nvPr/>
        </p:nvSpPr>
        <p:spPr>
          <a:xfrm>
            <a:off x="4191120" y="47242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asked for directions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8" name="Freeform 8"/>
          <p:cNvSpPr/>
          <p:nvPr/>
        </p:nvSpPr>
        <p:spPr>
          <a:xfrm>
            <a:off x="4114800" y="2590920"/>
            <a:ext cx="1143000" cy="3045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9" name="Line 9"/>
          <p:cNvSpPr/>
          <p:nvPr/>
        </p:nvSpPr>
        <p:spPr>
          <a:xfrm>
            <a:off x="4038480" y="1905120"/>
            <a:ext cx="0" cy="1066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0" name="Line 10"/>
          <p:cNvSpPr/>
          <p:nvPr/>
        </p:nvSpPr>
        <p:spPr>
          <a:xfrm>
            <a:off x="4191120" y="2666880"/>
            <a:ext cx="3886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1" name="Text Box 11"/>
          <p:cNvSpPr/>
          <p:nvPr/>
        </p:nvSpPr>
        <p:spPr>
          <a:xfrm>
            <a:off x="5791320" y="33526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2" name="Text Box 12"/>
          <p:cNvSpPr/>
          <p:nvPr/>
        </p:nvSpPr>
        <p:spPr>
          <a:xfrm>
            <a:off x="5105520" y="42670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43" name="Picture 13" descr="j0236466"/>
          <p:cNvPicPr/>
          <p:nvPr/>
        </p:nvPicPr>
        <p:blipFill>
          <a:blip r:embed="rId1"/>
          <a:stretch/>
        </p:blipFill>
        <p:spPr>
          <a:xfrm>
            <a:off x="-15228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4" descr=""/>
          <p:cNvPicPr/>
          <p:nvPr/>
        </p:nvPicPr>
        <p:blipFill>
          <a:blip r:embed="rId2"/>
          <a:stretch/>
        </p:blipFill>
        <p:spPr>
          <a:xfrm>
            <a:off x="2971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8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1996" fill="hold"/>
                                        <p:tgtEl>
                                          <p:spTgt spid="8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Let’s Practice!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46" name="Text Box 3"/>
          <p:cNvSpPr/>
          <p:nvPr/>
        </p:nvSpPr>
        <p:spPr>
          <a:xfrm>
            <a:off x="990720" y="2133720"/>
            <a:ext cx="7238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</a:rPr>
              <a:t>Our babysitter arrived late.</a:t>
            </a:r>
            <a:endParaRPr b="0" lang="en-US" sz="3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7" name="Text Box 4"/>
          <p:cNvSpPr/>
          <p:nvPr/>
        </p:nvSpPr>
        <p:spPr>
          <a:xfrm>
            <a:off x="121932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8" name="Text Box 5"/>
          <p:cNvSpPr/>
          <p:nvPr/>
        </p:nvSpPr>
        <p:spPr>
          <a:xfrm>
            <a:off x="251460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Our babysitter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9" name="Text Box 6"/>
          <p:cNvSpPr/>
          <p:nvPr/>
        </p:nvSpPr>
        <p:spPr>
          <a:xfrm>
            <a:off x="1219320" y="42670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AT DID SHE D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0" name="Text Box 7"/>
          <p:cNvSpPr/>
          <p:nvPr/>
        </p:nvSpPr>
        <p:spPr>
          <a:xfrm>
            <a:off x="4191120" y="47242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arrived late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1" name="Freeform 8"/>
          <p:cNvSpPr/>
          <p:nvPr/>
        </p:nvSpPr>
        <p:spPr>
          <a:xfrm>
            <a:off x="5029200" y="2666880"/>
            <a:ext cx="1295280" cy="228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2" name="Line 9"/>
          <p:cNvSpPr/>
          <p:nvPr/>
        </p:nvSpPr>
        <p:spPr>
          <a:xfrm>
            <a:off x="4876920" y="1905120"/>
            <a:ext cx="0" cy="1066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3" name="Line 10"/>
          <p:cNvSpPr/>
          <p:nvPr/>
        </p:nvSpPr>
        <p:spPr>
          <a:xfrm>
            <a:off x="5029200" y="2666880"/>
            <a:ext cx="2286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4" name="Text Box 11"/>
          <p:cNvSpPr/>
          <p:nvPr/>
        </p:nvSpPr>
        <p:spPr>
          <a:xfrm>
            <a:off x="5791320" y="33526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5" name="Text Box 12"/>
          <p:cNvSpPr/>
          <p:nvPr/>
        </p:nvSpPr>
        <p:spPr>
          <a:xfrm>
            <a:off x="5105520" y="42670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56" name="Picture 13" descr="j0286758"/>
          <p:cNvPicPr/>
          <p:nvPr/>
        </p:nvPicPr>
        <p:blipFill>
          <a:blip r:embed="rId1"/>
          <a:stretch/>
        </p:blipFill>
        <p:spPr>
          <a:xfrm>
            <a:off x="304920" y="4724280"/>
            <a:ext cx="1981080" cy="18925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14" descr=""/>
          <p:cNvPicPr/>
          <p:nvPr/>
        </p:nvPicPr>
        <p:blipFill>
          <a:blip r:embed="rId2"/>
          <a:stretch/>
        </p:blipFill>
        <p:spPr>
          <a:xfrm>
            <a:off x="2514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043" fill="hold"/>
                                        <p:tgtEl>
                                          <p:spTgt spid="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60120" y="923400"/>
            <a:ext cx="711684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Let’s Practice!</a:t>
            </a:r>
            <a:endParaRPr b="1" lang="en-US" sz="4400" spc="-1" strike="noStrike">
              <a:solidFill>
                <a:srgbClr val="0000ff"/>
              </a:solidFill>
              <a:latin typeface="Century Gothic"/>
            </a:endParaRPr>
          </a:p>
        </p:txBody>
      </p:sp>
      <p:sp>
        <p:nvSpPr>
          <p:cNvPr id="859" name="Text Box 3"/>
          <p:cNvSpPr/>
          <p:nvPr/>
        </p:nvSpPr>
        <p:spPr>
          <a:xfrm>
            <a:off x="990720" y="2133720"/>
            <a:ext cx="739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</a:rPr>
              <a:t>The children bought a candy bar.</a:t>
            </a:r>
            <a:endParaRPr b="0" lang="en-US" sz="3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121932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2514600" y="3429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The children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2" name="Text Box 6"/>
          <p:cNvSpPr/>
          <p:nvPr/>
        </p:nvSpPr>
        <p:spPr>
          <a:xfrm>
            <a:off x="1219320" y="42670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 Rounded MT Bold"/>
              </a:rPr>
              <a:t>WHAT DID THEY DO?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3" name="Text Box 7"/>
          <p:cNvSpPr/>
          <p:nvPr/>
        </p:nvSpPr>
        <p:spPr>
          <a:xfrm>
            <a:off x="4191120" y="47242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Rounded MT Bold"/>
              </a:rPr>
              <a:t>bought a candy bar.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4" name="Freeform 8"/>
          <p:cNvSpPr/>
          <p:nvPr/>
        </p:nvSpPr>
        <p:spPr>
          <a:xfrm>
            <a:off x="3886200" y="2666880"/>
            <a:ext cx="1219320" cy="228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5" name="Line 9"/>
          <p:cNvSpPr/>
          <p:nvPr/>
        </p:nvSpPr>
        <p:spPr>
          <a:xfrm>
            <a:off x="3809880" y="1981080"/>
            <a:ext cx="0" cy="1067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6" name="Line 10"/>
          <p:cNvSpPr/>
          <p:nvPr/>
        </p:nvSpPr>
        <p:spPr>
          <a:xfrm>
            <a:off x="3886200" y="2666880"/>
            <a:ext cx="40384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7" name="Text Box 11"/>
          <p:cNvSpPr/>
          <p:nvPr/>
        </p:nvSpPr>
        <p:spPr>
          <a:xfrm>
            <a:off x="5791320" y="33526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SUBJECT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8" name="Text Box 12"/>
          <p:cNvSpPr/>
          <p:nvPr/>
        </p:nvSpPr>
        <p:spPr>
          <a:xfrm>
            <a:off x="5334120" y="42670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Rounded MT Bold"/>
              </a:rPr>
              <a:t>PREDICATE</a:t>
            </a:r>
            <a:endParaRPr b="0" lang="en-US" sz="3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69" name="Picture 13" descr="j0264234"/>
          <p:cNvPicPr/>
          <p:nvPr/>
        </p:nvPicPr>
        <p:blipFill>
          <a:blip r:embed="rId1"/>
          <a:stretch/>
        </p:blipFill>
        <p:spPr>
          <a:xfrm>
            <a:off x="0" y="4591080"/>
            <a:ext cx="3809880" cy="22669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14" descr=""/>
          <p:cNvPicPr/>
          <p:nvPr/>
        </p:nvPicPr>
        <p:blipFill>
          <a:blip r:embed="rId2"/>
          <a:stretch/>
        </p:blipFill>
        <p:spPr>
          <a:xfrm>
            <a:off x="3429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4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4" dur="3901" fill="hold"/>
                                        <p:tgtEl>
                                          <p:spTgt spid="8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7:52:35Z</dcterms:created>
  <dc:creator>Melissa Caro</dc:creator>
  <dc:description/>
  <dc:language>en-US</dc:language>
  <cp:lastModifiedBy>Laura McDow</cp:lastModifiedBy>
  <dcterms:modified xsi:type="dcterms:W3CDTF">2010-08-26T00:23:43Z</dcterms:modified>
  <cp:revision>16</cp:revision>
  <dc:subject/>
  <dc:title>Predicates</dc:title>
</cp:coreProperties>
</file>